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26C-283F-44DD-9DF8-632CF851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C72-C1C2-43BF-84E1-F3F3CDC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214-C7C0-4A79-8D2E-31033FF7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3FC-9997-4060-9E46-5B6C19EE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AA3-7C0E-401D-89D0-824F8759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DCF-EFB0-4169-86EB-5E2C3ABF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EAB-8147-4F0F-9C31-B0F59C4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C20-5C7F-41D5-AEB1-1FBB286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C9B-1698-4D52-92A0-EBA6895F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AF8-150A-4818-BC04-548D064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693-CBE3-42B3-97D5-005595CF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099-83B2-46D5-A538-FB81283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E89-68D1-43B8-A00D-CA721B12F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hyperlink" Target="http://www.clipartheaven.com/clipart/holidays/mothers-day/mom-with-gift-clipart.gif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clipartheaven.com/clipart/holidays/mothers-day/mom-with-gift-clipart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7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clipartheaven.com/clipart/holidays/mothers-day/mom-with-gift-clipart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50000">
              <a:srgbClr val="ffffff"/>
            </a:gs>
            <a:gs pos="100000">
              <a:srgbClr val="9191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990720"/>
            <a:ext cx="76201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Sweet Old Ma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51814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48006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Michell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December 9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255420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9999ff"/>
                </a:solidFill>
                <a:uFillTx/>
                <a:latin typeface="Arial"/>
              </a:rPr>
              <a:t>Moral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9999ff"/>
                </a:solidFill>
                <a:latin typeface="Arial"/>
              </a:rPr>
              <a:t>“</a:t>
            </a:r>
            <a:r>
              <a:rPr b="0" lang="en-US" sz="7000" spc="-1" strike="noStrike">
                <a:solidFill>
                  <a:srgbClr val="9999ff"/>
                </a:solidFill>
                <a:latin typeface="Arial"/>
              </a:rPr>
              <a:t>Not everything you see is what it appears to be.”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7ff"/>
            </a:gs>
            <a:gs pos="50000">
              <a:srgbClr val="ffffff"/>
            </a:gs>
            <a:gs pos="100000">
              <a:srgbClr val="81e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ccff"/>
                </a:solidFill>
                <a:uFillTx/>
                <a:latin typeface="Arial"/>
              </a:rPr>
              <a:t>Characte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375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ccff"/>
                </a:solidFill>
                <a:latin typeface="Arial"/>
              </a:rPr>
              <a:t>Old Ma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75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ccff"/>
                </a:solidFill>
                <a:latin typeface="Arial"/>
              </a:rPr>
              <a:t>Sue (the mother)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75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ccff"/>
                </a:solidFill>
                <a:latin typeface="Arial"/>
              </a:rPr>
              <a:t>Nico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1697040" cy="192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80060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2666880"/>
            <a:ext cx="18763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ue and her daughter Nicole were      coming home from the mall when they see            a little old man asking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6857640" y="4952880"/>
            <a:ext cx="151452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324840" cy="390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01000" y="3886200"/>
            <a:ext cx="1143000" cy="990720"/>
          </a:xfrm>
          <a:prstGeom prst="wedgeEllipseCallout">
            <a:avLst>
              <a:gd name="adj1" fmla="val -43750"/>
              <a:gd name="adj2" fmla="val 70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4582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ue decides to go back into the mall parking lot to help the guy. In an old rattled voice he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499428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3809880"/>
            <a:ext cx="192564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572000" y="1676520"/>
            <a:ext cx="4341960" cy="283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flipH="1">
            <a:off x="228600" y="4724280"/>
            <a:ext cx="1884240" cy="1924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1905120"/>
            <a:ext cx="2514600" cy="2438280"/>
          </a:xfrm>
          <a:prstGeom prst="cloudCallout">
            <a:avLst>
              <a:gd name="adj1" fmla="val -10606"/>
              <a:gd name="adj2" fmla="val 72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Can Y-you help m-me    w-w-with m-my b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n she grabbed the bag, that’s when the old man tore off a costume and became a young adult. He broke into the unlocked car and stole Sue’s T.V. that she bought at the 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657600"/>
            <a:ext cx="192564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223380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133720" y="5410080"/>
            <a:ext cx="1600200" cy="127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2438280"/>
            <a:ext cx="2057400" cy="990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e little man, of course I can hel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n he got into his car and drove away, Nicole asked “Mommy, why would that old man really be a young adult and steal our new T.V.?” That’s when Sue replied saying “Not everything you see is what it appears to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24080" y="472428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See full size image"/>
          <p:cNvPicPr/>
          <p:nvPr/>
        </p:nvPicPr>
        <p:blipFill>
          <a:blip r:embed="rId2"/>
          <a:stretch/>
        </p:blipFill>
        <p:spPr>
          <a:xfrm>
            <a:off x="53352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802040" y="2514600"/>
            <a:ext cx="4341960" cy="2830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40:52Z</dcterms:created>
  <dc:creator>install</dc:creator>
  <dc:description/>
  <dc:language>en-US</dc:language>
  <cp:lastModifiedBy>install</cp:lastModifiedBy>
  <dcterms:modified xsi:type="dcterms:W3CDTF">2010-12-17T16:53:19Z</dcterms:modified>
  <cp:revision>14</cp:revision>
  <dc:subject/>
  <dc:title>Slide 1</dc:title>
</cp:coreProperties>
</file>